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  <p:custShowLst>
    <p:custShow name="Le tour" id="0">
      <p:sldLst>
        <p:sld r:id="rId4"/>
        <p:sld r:id="rId12"/>
        <p:sld r:id="rId15"/>
      </p:sldLst>
    </p:custShow>
    <p:custShow name="Copie de Le tour" id="1">
      <p:sldLst>
        <p:sld r:id="rId4"/>
        <p:sld r:id="rId12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FD094-DDBD-4E19-A25C-FA1D0085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CBC4-E259-43B5-AEE9-54FCC2F4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06AF0-F138-43BD-97AD-2F95F18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FA96A-C370-49DE-8EE7-C3A4EB83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0F76-C7EA-4874-B8FB-DD93A535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C010E-1B0A-4C72-92C7-524AE12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2BB84-1F46-4D11-9F94-FAD4D655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09389-2A11-4284-AD39-D8B10FCB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DAE8C-AE69-40FC-8681-3C8E498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68E66-65A0-490D-AD2F-EBADE845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023A9-B18F-469A-879D-2B7B8DDC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03DA-75A9-49F3-B858-14BBA3B4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9B4-52B4-4D9B-AE3A-055E4882BEB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Arial"/>
              </a:rPr>
              <a:t>You are entering now a magic world...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75632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Times New Roman"/>
              </a:rPr>
              <a:t>Take a strong look into my cat eyes and concentrate yourself into the card you have chose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93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Times New Roman"/>
              </a:rPr>
              <a:t>I cannot see which card you have chosen, but I do know exactly which card you have in mind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1484280"/>
            <a:ext cx="429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Watch it!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Your card has gone  now!!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5280" y="5229360"/>
            <a:ext cx="42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400" spc="-1" strike="noStrike">
                <a:solidFill>
                  <a:srgbClr val="00ff00"/>
                </a:solidFill>
                <a:latin typeface="Times New Roman"/>
              </a:rPr>
              <a:t>Surprised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21300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See You </a:t>
            </a:r>
            <a:r>
              <a:rPr b="1" i="1" lang="pl-PL" sz="4800" spc="-1" strike="noStrike">
                <a:solidFill>
                  <a:srgbClr val="4d4d4d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25920"/>
            <a:ext cx="57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00"/>
                </a:solidFill>
                <a:latin typeface="Times New Roman"/>
              </a:rPr>
              <a:t>Send this message to others to surprise the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 rot="10800000">
            <a:off x="826560" y="6091920"/>
            <a:ext cx="78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ff00"/>
                </a:solidFill>
                <a:latin typeface="Times New Roman"/>
              </a:rPr>
              <a:t>With many greetings from me, the magic c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in one single moment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…</a:t>
            </a: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.you will be a witness of something very special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you are witness of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nl-NL" sz="4400" spc="-1" strike="noStrike">
                <a:solidFill>
                  <a:srgbClr val="00ff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an incredible illusion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e illusion of  my sharp ey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257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is is a normal program, but you will see that …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....I can read your mind through this screen!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867280" y="333360"/>
            <a:ext cx="31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Here below you will see 6 different playing cards. Take on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Only ONE card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Do not touch the card and DON’T click with your mo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ff00"/>
                </a:solidFill>
                <a:latin typeface="Times New Roman"/>
              </a:rPr>
              <a:t>Now I am able to read th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EM</dc:creator>
  <dc:description/>
  <dc:language>en-US</dc:language>
  <cp:lastModifiedBy>Ron Huijboom</cp:lastModifiedBy>
  <dcterms:modified xsi:type="dcterms:W3CDTF">2007-08-05T10:53:54Z</dcterms:modified>
  <cp:revision>60</cp:revision>
  <dc:subject/>
  <dc:title>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079639</vt:r8>
  </property>
  <property fmtid="{D5CDD505-2E9C-101B-9397-08002B2CF9AE}" pid="3" name="_AuthorEmail">
    <vt:lpwstr>postbus@veltman-ict.demon.nl</vt:lpwstr>
  </property>
  <property fmtid="{D5CDD505-2E9C-101B-9397-08002B2CF9AE}" pid="4" name="_AuthorEmailDisplayName">
    <vt:lpwstr>Veltman ICT</vt:lpwstr>
  </property>
  <property fmtid="{D5CDD505-2E9C-101B-9397-08002B2CF9AE}" pid="5" name="_EmailSubject">
    <vt:lpwstr>It's magic</vt:lpwstr>
  </property>
  <property fmtid="{D5CDD505-2E9C-101B-9397-08002B2CF9AE}" pid="6" name="_ReviewingToolsShownOnce">
    <vt:lpwstr/>
  </property>
</Properties>
</file>