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  <p:custShowLst>
    <p:custShow name="Le tour" id="0">
      <p:sldLst>
        <p:sld r:id="rId4"/>
        <p:sld r:id="rId12"/>
        <p:sld r:id="rId15"/>
      </p:sldLst>
    </p:custShow>
    <p:custShow name="Copie de Le tour" id="1">
      <p:sldLst>
        <p:sld r:id="rId4"/>
        <p:sld r:id="rId12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7C140-1A77-4901-A244-74712CA5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DD79A-0B1C-4EE6-8D5E-1E0A3F1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E11A5-AB7C-48FF-AED1-8A623E9D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A277D-E412-4C8A-BC29-61D07B3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4E3EE-531B-4010-B1D9-527C2A0E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249A6-444C-4867-B6FF-C2EAFC78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1FCF3-419B-4AF9-A1B6-33EF613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223C4-40AC-4BD0-AC77-AA6429D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3CB80-80C8-47EE-8838-E51640C6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525B4-C95C-4425-92A2-78ECBDA1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B0BC7-14E4-4E23-9213-3135E0A2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F05F6-28DE-4FAD-812D-AEAFE80A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58DF-B2FB-41BF-9A5E-A48A2B1BB99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Arial"/>
              </a:rPr>
              <a:t>You are entering now a magic world...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75632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Times New Roman"/>
              </a:rPr>
              <a:t>Take a strong look into my cat eyes and concentrate yourself into the card you have chose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93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Times New Roman"/>
              </a:rPr>
              <a:t>I cannot see which card you have chosen, but I do know exactly which card you have in mind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720" y="1484280"/>
            <a:ext cx="429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Watch it!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Your card has gone  now!!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35280" y="5229360"/>
            <a:ext cx="42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400" spc="-1" strike="noStrike">
                <a:solidFill>
                  <a:srgbClr val="00ff00"/>
                </a:solidFill>
                <a:latin typeface="Times New Roman"/>
              </a:rPr>
              <a:t>Surprised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321300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See You </a:t>
            </a:r>
            <a:r>
              <a:rPr b="1" i="1" lang="pl-PL" sz="4800" spc="-1" strike="noStrike">
                <a:solidFill>
                  <a:srgbClr val="4d4d4d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25920"/>
            <a:ext cx="57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00"/>
                </a:solidFill>
                <a:latin typeface="Times New Roman"/>
              </a:rPr>
              <a:t>Send this message to others to surprise the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 rot="10800000">
            <a:off x="826560" y="6091920"/>
            <a:ext cx="78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ff00"/>
                </a:solidFill>
                <a:latin typeface="Times New Roman"/>
              </a:rPr>
              <a:t>With many greetings from me, the magic c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in one single moment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…</a:t>
            </a: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.you will be a witness of something very special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you are witness of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nl-NL" sz="4400" spc="-1" strike="noStrike">
                <a:solidFill>
                  <a:srgbClr val="00ff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an incredible illusion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e illusion of  my sharp ey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257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is is a normal program, but you will see that …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....I can read your mind through this screen!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867280" y="333360"/>
            <a:ext cx="31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Here below you will see 6 different playing cards. Take on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Only ONE card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Do not touch the card and DON’T click with your mo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ff00"/>
                </a:solidFill>
                <a:latin typeface="Times New Roman"/>
              </a:rPr>
              <a:t>Now I am able to read th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EM</dc:creator>
  <dc:description/>
  <dc:language>en-US</dc:language>
  <cp:lastModifiedBy>Ron Huijboom</cp:lastModifiedBy>
  <dcterms:modified xsi:type="dcterms:W3CDTF">2007-08-05T10:53:54Z</dcterms:modified>
  <cp:revision>60</cp:revision>
  <dc:subject/>
  <dc:title>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079639</vt:r8>
  </property>
  <property fmtid="{D5CDD505-2E9C-101B-9397-08002B2CF9AE}" pid="3" name="_AuthorEmail">
    <vt:lpwstr>postbus@veltman-ict.demon.nl</vt:lpwstr>
  </property>
  <property fmtid="{D5CDD505-2E9C-101B-9397-08002B2CF9AE}" pid="4" name="_AuthorEmailDisplayName">
    <vt:lpwstr>Veltman ICT</vt:lpwstr>
  </property>
  <property fmtid="{D5CDD505-2E9C-101B-9397-08002B2CF9AE}" pid="5" name="_EmailSubject">
    <vt:lpwstr>It's magic</vt:lpwstr>
  </property>
  <property fmtid="{D5CDD505-2E9C-101B-9397-08002B2CF9AE}" pid="6" name="_ReviewingToolsShownOnce">
    <vt:lpwstr/>
  </property>
</Properties>
</file>