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  <p:custShowLst>
    <p:custShow name="Le tour" id="0">
      <p:sldLst>
        <p:sld r:id="rId4"/>
        <p:sld r:id="rId12"/>
        <p:sld r:id="rId15"/>
      </p:sldLst>
    </p:custShow>
    <p:custShow name="Copie de Le tour" id="1">
      <p:sldLst>
        <p:sld r:id="rId4"/>
        <p:sld r:id="rId12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9D9CD-DCC5-414E-88B0-B0A366C8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C09FD-1397-4261-A415-7E2BC6FC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9FD59-927A-4C66-A91D-231AEFDC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812C8-6A78-489B-9D0A-BC9511F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B95CA-5B1F-468B-BB70-190238FA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66F88-B5F0-4AF5-951A-DB4C07A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22BC8-60D9-4894-AD40-62BAA8E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83EDB-7264-4789-90BA-29E682DE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904CE-A18D-425B-BAE2-E311184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A8549-A849-4126-A7F1-52C4376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D14C7-E305-405B-B599-DB7A8A7B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61E51-F2E2-496A-BBD4-A9BC15BF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0B9-1C20-47CC-9F75-D5C0C28DB34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Arial"/>
              </a:rPr>
              <a:t>You are entering now a magic world...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75632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Times New Roman"/>
              </a:rPr>
              <a:t>Take a strong look into my cat eyes and concentrate yourself into the card you have chose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93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Times New Roman"/>
              </a:rPr>
              <a:t>I cannot see which card you have chosen, but I do know exactly which card you have in mind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720" y="1484280"/>
            <a:ext cx="429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Watch it!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Your card has gone  now!!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35280" y="5229360"/>
            <a:ext cx="42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400" spc="-1" strike="noStrike">
                <a:solidFill>
                  <a:srgbClr val="00ff00"/>
                </a:solidFill>
                <a:latin typeface="Times New Roman"/>
              </a:rPr>
              <a:t>Surprised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321300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See You </a:t>
            </a:r>
            <a:r>
              <a:rPr b="1" i="1" lang="pl-PL" sz="4800" spc="-1" strike="noStrike">
                <a:solidFill>
                  <a:srgbClr val="4d4d4d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25920"/>
            <a:ext cx="57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00"/>
                </a:solidFill>
                <a:latin typeface="Times New Roman"/>
              </a:rPr>
              <a:t>Send this message to others to surprise the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 rot="10800000">
            <a:off x="826560" y="6091920"/>
            <a:ext cx="78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ff00"/>
                </a:solidFill>
                <a:latin typeface="Times New Roman"/>
              </a:rPr>
              <a:t>With many greetings from me, the magic c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in one single moment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…</a:t>
            </a: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.you will be a witness of something very special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you are witness of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nl-NL" sz="4400" spc="-1" strike="noStrike">
                <a:solidFill>
                  <a:srgbClr val="00ff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an incredible illusion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e illusion of  my sharp ey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257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is is a normal program, but you will see that …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....I can read your mind through this screen!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867280" y="333360"/>
            <a:ext cx="31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Here below you will see 6 different playing cards. Take on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Only ONE card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Do not touch the card and DON’T click with your mo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ff00"/>
                </a:solidFill>
                <a:latin typeface="Times New Roman"/>
              </a:rPr>
              <a:t>Now I am able to read th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EM</dc:creator>
  <dc:description/>
  <dc:language>en-US</dc:language>
  <cp:lastModifiedBy>Ron Huijboom</cp:lastModifiedBy>
  <dcterms:modified xsi:type="dcterms:W3CDTF">2007-08-05T10:53:54Z</dcterms:modified>
  <cp:revision>60</cp:revision>
  <dc:subject/>
  <dc:title>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079639</vt:r8>
  </property>
  <property fmtid="{D5CDD505-2E9C-101B-9397-08002B2CF9AE}" pid="3" name="_AuthorEmail">
    <vt:lpwstr>postbus@veltman-ict.demon.nl</vt:lpwstr>
  </property>
  <property fmtid="{D5CDD505-2E9C-101B-9397-08002B2CF9AE}" pid="4" name="_AuthorEmailDisplayName">
    <vt:lpwstr>Veltman ICT</vt:lpwstr>
  </property>
  <property fmtid="{D5CDD505-2E9C-101B-9397-08002B2CF9AE}" pid="5" name="_EmailSubject">
    <vt:lpwstr>It's magic</vt:lpwstr>
  </property>
  <property fmtid="{D5CDD505-2E9C-101B-9397-08002B2CF9AE}" pid="6" name="_ReviewingToolsShownOnce">
    <vt:lpwstr/>
  </property>
</Properties>
</file>